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2688-4B86-41F7-B18D-2950ABC49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75A3-1EF8-43D4-8167-3F77C052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BD2F-632D-4762-8242-8E4BCA5B9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7178-EC04-4340-9DFB-3B4E8FCCD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2617-6A76-4C94-B5F6-789ED1CF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43FF-472C-41CF-94E4-393F4A59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0B61-FE5D-4B44-A112-79D47798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E75A-1273-47D1-99D0-11ECF5E9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CCD1-4D18-4D2A-93B3-DD79DD0A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2FF3-8B38-44EE-B8CB-88E1544D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B5B9-F8E5-4089-8BB2-6E9B4985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71E7-17E9-43CB-AA0E-203C10C7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DFB0-2828-40AC-A700-C9EBE75C9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0"/>
            <a:ext cx="9144000" cy="120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 9-23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No homewor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5"/>
          <p:cNvSpPr/>
          <p:nvPr/>
        </p:nvSpPr>
        <p:spPr>
          <a:xfrm>
            <a:off x="0" y="990720"/>
            <a:ext cx="4572000" cy="2860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9-23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a body of  water completely surrounded by la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a body of land completely surrounded by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a large body of water that extends into land and larger than a 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4"/>
          <p:cNvSpPr/>
          <p:nvPr/>
        </p:nvSpPr>
        <p:spPr>
          <a:xfrm>
            <a:off x="2590920" y="1676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5"/>
          <p:cNvSpPr/>
          <p:nvPr/>
        </p:nvSpPr>
        <p:spPr>
          <a:xfrm>
            <a:off x="2743200" y="23623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is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6"/>
          <p:cNvSpPr/>
          <p:nvPr/>
        </p:nvSpPr>
        <p:spPr>
          <a:xfrm>
            <a:off x="350532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gu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http://classic.waterforecast.com/gulf/images/gulf_sat.jpg"/>
          <p:cNvPicPr/>
          <p:nvPr/>
        </p:nvPicPr>
        <p:blipFill>
          <a:blip r:embed="rId1"/>
          <a:stretch/>
        </p:blipFill>
        <p:spPr>
          <a:xfrm>
            <a:off x="0" y="3776760"/>
            <a:ext cx="4800600" cy="3081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http://www.101worldtravel.com/wp-content/uploads/2011/05/robben-island-1.jpg"/>
          <p:cNvPicPr/>
          <p:nvPr/>
        </p:nvPicPr>
        <p:blipFill>
          <a:blip r:embed="rId2"/>
          <a:stretch/>
        </p:blipFill>
        <p:spPr>
          <a:xfrm>
            <a:off x="4578480" y="990720"/>
            <a:ext cx="4565520" cy="2971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http://t0.gstatic.com/images?q=tbn:ANd9GcRw-sEOW6UJvPZNvWOFLQgyEp7mcTmum6r4UIQPydc5DKxBz1u3UZyJcDvw"/>
          <p:cNvPicPr/>
          <p:nvPr/>
        </p:nvPicPr>
        <p:blipFill>
          <a:blip r:embed="rId3"/>
          <a:srcRect l="0" t="8209" r="0" b="0"/>
          <a:stretch/>
        </p:blipFill>
        <p:spPr>
          <a:xfrm>
            <a:off x="4572000" y="3962520"/>
            <a:ext cx="4572000" cy="2895480"/>
          </a:xfrm>
          <a:prstGeom prst="rect">
            <a:avLst/>
          </a:prstGeom>
          <a:ln w="0">
            <a:noFill/>
          </a:ln>
        </p:spPr>
      </p:pic>
      <p:sp>
        <p:nvSpPr>
          <p:cNvPr id="49" name="TextBox 9"/>
          <p:cNvSpPr/>
          <p:nvPr/>
        </p:nvSpPr>
        <p:spPr>
          <a:xfrm>
            <a:off x="4572000" y="0"/>
            <a:ext cx="4572000" cy="916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e on des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ink PEN    *Cover 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Mystery Island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7T13:50:16Z</dcterms:created>
  <dc:creator>STUDENT</dc:creator>
  <dc:description/>
  <dc:language>en-US</dc:language>
  <cp:lastModifiedBy>poweruser</cp:lastModifiedBy>
  <dcterms:modified xsi:type="dcterms:W3CDTF">2011-09-23T15:33:45Z</dcterms:modified>
  <cp:revision>33</cp:revision>
  <dc:subject/>
  <dc:title>Slide 1</dc:title>
</cp:coreProperties>
</file>